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98A2-120A-4A2F-B3E1-2B4E1F968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69E6-1D0E-4B33-B216-095F864A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923D-BABC-4938-A222-7F9163106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85CF-3D43-4A8D-BCF0-9ACFD24CB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745D1-F6D4-4722-828C-295C07458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B8F1-E85C-4DAA-9ACF-C24A2721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F097-3BE2-467D-B477-425C6D0E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56C9-7D0E-4205-A1AB-26BF4144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EEEA-D079-4DB0-9299-E4937AFB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5799-823F-4949-AF8F-69169182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688C-3C0F-486D-A9A6-9CB7C5BA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4785-E518-47E2-80F9-77B5446C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C4B9-8752-4C62-888D-A8649961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4316-BDDA-41ED-8EEF-9D3C4E73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59417-37B1-443A-949B-B69581F8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1680-B431-43E3-B84C-E86364555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FB2E-D7CA-411A-832F-93AA5B022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7888-A4BC-4280-87DD-51F1AFD5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58BA-2924-4ACF-8464-E7B7EC12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FBA9-FC41-48FB-9E80-F62D59B0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3D5B-F621-499D-950B-445E12561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CFB0-5995-4055-AD33-B6B0626F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7E61-4AB5-4F49-9AFA-5CB981CB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3CA1-AADB-4585-9EB3-9EB267AA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A761-157A-469C-954C-AC50EFF0DC7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891D-A9F2-492D-8A09-1B8285B511D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hoosemyplate.gov/foodgroups/index.html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appy Wednesday!   10/8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 your new seat? Double check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ase take out your YELLOW sheets that we worked on during class on Monday. I will be coming around to check that you worked on it.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is was homewor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You should have tried!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ssay due TUESDAY, Oct. 11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nt a pass to the Social Studies computer lab on Friday during All School Resource?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e 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your cheat sheet! That’s what it’s fo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ink Now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5867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ose ONE situation and write your refle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HS will now require you to eat a healthy lunch that meets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y Pla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tandar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sconsin will now only give drivers licenses to 16-18 year olds who have  a B average or hig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ople between the ages of 18 and 24 years will be required to serve ONE year in the United States milita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457200"/>
            <a:ext cx="1905120" cy="1733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324480" y="2514600"/>
            <a:ext cx="1981440" cy="1201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6400800" y="4191120"/>
            <a:ext cx="183348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ink Now! Discussion…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mmm. So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might people have difficulty accepting new idea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the risks of embracing a new idea? What are the benefi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kinds of new ideas came up in the Renaissance? Think about your Seminar character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ythbusters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 you remember about the Renaissan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 you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in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ou know about the Scientific Revolution?  The Enlightenm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ll out ½ sheet (orange) on your o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What will we be learning this unit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ienc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losoph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olutio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lightenmen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id the scientists and philosophers challenge old ideas about power and authori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e start with… Galileo Galilei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 man looking throug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is telescope 40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ears ago is at leas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artially responsib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or your freed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400500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alileo reading and questions – Due FRIDAY 10/7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naissance Essay –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ue TUESDAY 10/11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rite these down in your plann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Medici &amp; Galile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do not need to take notes during the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CHOOSE:  You can watch the video OR work on your Galileo homework. No talking or doing other 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12:57:58Z</dcterms:created>
  <dc:creator>MCPASD</dc:creator>
  <dc:description/>
  <dc:language>en-US</dc:language>
  <cp:lastModifiedBy>MCPASD</cp:lastModifiedBy>
  <dcterms:modified xsi:type="dcterms:W3CDTF">2011-10-14T14:38:29Z</dcterms:modified>
  <cp:revision>7</cp:revision>
  <dc:subject/>
  <dc:title>Slide 1</dc:title>
</cp:coreProperties>
</file>